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7.pct" ContentType="image/x-pict"/>
  <Override PartName="/ppt/media/image14.jpeg" ContentType="image/jpeg"/>
  <Override PartName="/ppt/media/image16.pct" ContentType="image/x-pict"/>
  <Override PartName="/ppt/media/image1.pct" ContentType="image/x-pict"/>
  <Override PartName="/ppt/media/image4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15.jpeg" ContentType="image/jpe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879-7858-4CB1-80BB-27485641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CD6-6C41-49CE-9EF6-B3AE49D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A17-63D9-43D3-9E88-592AC06E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785-7CCC-47FD-A17A-8EC049D6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BF4-D37C-441F-82AD-4CE5DF3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AC5-CCC5-4174-8BF2-38937E4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B30-3A07-40E3-A3D9-404EA72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9F1-3717-4142-8726-59DF213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DE6-1735-4FA5-B8C3-7340569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5F5-BC2E-42C3-AA3B-180C45A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5B9-63B4-49C8-8D31-21FF18C5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91B-08C4-41F2-9751-187B553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87D-179D-4F4F-B64E-4A9DD79CB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399800" t="1700912" r="69661" b="84802"/>
          <a:stretch/>
        </p:blipFill>
        <p:spPr>
          <a:xfrm rot="2405400">
            <a:off x="7083000" y="503532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8195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riting is the only thing tha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hen I do i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 don't feel I should be doing anything els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Gloria Steinem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408400" cy="18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1295280"/>
            <a:ext cx="240840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338723" t="193617" r="2215569" b="1850152"/>
          <a:stretch/>
        </p:blipFill>
        <p:spPr>
          <a:xfrm rot="715200">
            <a:off x="151920" y="7308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Every writer I know has trouble writin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Joseph H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ime to a writer is like play dough in the hands of a toddler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Barry La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437525"/>
          <a:stretch/>
        </p:blipFill>
        <p:spPr>
          <a:xfrm>
            <a:off x="4343400" y="685800"/>
            <a:ext cx="4229280" cy="556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00240" y="13712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 synonym is a word you use when you can’t spell the other on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Baltasar Graci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661475" t="0" r="624863" b="0"/>
          <a:stretch/>
        </p:blipFill>
        <p:spPr>
          <a:xfrm>
            <a:off x="76320" y="219240"/>
            <a:ext cx="4384440" cy="6333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f there is a book you really want to read but you can’t find i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it down and write it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Toni Morris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272213" t="714183" r="773877" b="899038"/>
          <a:stretch/>
        </p:blipFill>
        <p:spPr>
          <a:xfrm>
            <a:off x="3200400" y="457200"/>
            <a:ext cx="3200400" cy="2860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On writing…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I try to leave out the parts that people skip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Elmore Leon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’m not a very good writer, but I’m an excellent rewriter.”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James Miche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8098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Don’t tell me the moon is shining; show me the glint of light on broken glass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Anton Chekh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Putting pen to paper encourages pause for thought making us think more deeply even if our writing is thrown away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Norbet Plat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0481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he difference between the right word and the almost right word is the difference between lightning and a lightning bu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Mark Tw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hen something can be read without effort, great effort has gone into its writin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Enrique Jardiel Ponc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Metaphors have a way of holding the most truth in the least spac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Orson Scott C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397006" t="129179" r="98802" b="1850152"/>
          <a:stretch/>
        </p:blipFill>
        <p:spPr>
          <a:xfrm rot="20748600">
            <a:off x="533160" y="685440"/>
            <a:ext cx="266688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1341517" t="1700912" r="1085828" b="84802"/>
          <a:stretch/>
        </p:blipFill>
        <p:spPr>
          <a:xfrm rot="20664600">
            <a:off x="2285640" y="4343400"/>
            <a:ext cx="1465200" cy="15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325549" t="1700912" r="2186427" b="84802"/>
          <a:stretch/>
        </p:blipFill>
        <p:spPr>
          <a:xfrm rot="1661400">
            <a:off x="6629040" y="304920"/>
            <a:ext cx="1808280" cy="203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You write to communicate what’s burning inside you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You edit to let the fire show through the smok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Author Unkn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01924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599170" t="0" r="1162241" b="0"/>
          <a:stretch/>
        </p:blipFill>
        <p:spPr>
          <a:xfrm>
            <a:off x="3505320" y="609480"/>
            <a:ext cx="2022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 write to correct life’s unfairness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Verandah Porc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5599" t="0" r="0" b="0"/>
          <a:stretch/>
        </p:blipFill>
        <p:spPr>
          <a:xfrm>
            <a:off x="1828800" y="609480"/>
            <a:ext cx="5359320" cy="4152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 writer is someone who can make a riddle out of an answer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Karl Kra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38723" t="193617" r="2215569" b="1850152"/>
          <a:stretch/>
        </p:blipFill>
        <p:spPr>
          <a:xfrm rot="715200">
            <a:off x="151920" y="7308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397006" t="129179" r="98802" b="1850152"/>
          <a:stretch/>
        </p:blipFill>
        <p:spPr>
          <a:xfrm>
            <a:off x="5486400" y="502596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341517" t="1700912" r="1085828" b="84802"/>
          <a:stretch/>
        </p:blipFill>
        <p:spPr>
          <a:xfrm rot="20664600">
            <a:off x="456840" y="45684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325549" t="1700912" r="2186427" b="84802"/>
          <a:stretch/>
        </p:blipFill>
        <p:spPr>
          <a:xfrm rot="1661400">
            <a:off x="6858000" y="378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2399800" t="1700912" r="69661" b="84802"/>
          <a:stretch/>
        </p:blipFill>
        <p:spPr>
          <a:xfrm rot="827400">
            <a:off x="3123720" y="7621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Memory belie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before knowing remembers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William Faulk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Easy reading is damn hard writin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Nathaniel Hawthor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14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nch by in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he words surprised m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W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397480" cy="40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397480" cy="405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o me the greatest pleasure of writing is not what it’s about, but the inner music the words mak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Truman Capote, 196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5562720" cy="393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3040" y="24379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I write,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idea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nder around in my mind looking for something to do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S.E. Hint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34:31Z</dcterms:created>
  <dc:creator>Pam Krambeck</dc:creator>
  <dc:description/>
  <dc:language>en-US</dc:language>
  <cp:lastModifiedBy>pdd</cp:lastModifiedBy>
  <dcterms:modified xsi:type="dcterms:W3CDTF">2007-09-05T20:32:45Z</dcterms:modified>
  <cp:revision>4</cp:revision>
  <dc:subject/>
  <dc:title>PowerPoint Presentation</dc:title>
</cp:coreProperties>
</file>